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CD8C2-E7CD-4D05-9F89-8CD870BC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59CB-F268-442E-9128-1DE33A0D0A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C72F-4793-42A3-B4CC-9752D13D81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9847-0A3C-44A5-AEC3-C157C996E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96C8-85D8-415F-A8C8-EDC02713FB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20289-EDF2-45BC-A7D9-DB123F1B85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8659-8266-401E-8ECB-66998B2B7A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D781E-8187-45FF-9138-0BE83DD5C8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8FAF4-9E71-4E0F-9807-8F8EE8784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99A72-F7C4-4784-8CE2-FB1A86481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8727-A0D1-446F-BF3F-3652996B06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C092-4822-4ACA-868D-1164715CBA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17F79-A059-4DA2-8B32-D93438116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2BC08-20A6-441F-9661-BEDCF21A03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1197-E6E8-4E1E-B043-C0C64D5417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6808A-DD0D-446A-8748-C69032D439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DBBF8-9D45-4F93-BE19-F1ED1484C0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B9B8-58DD-48C2-8BF6-7A4BE85AAC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A5FB-FD5E-442D-9C92-0D45064C45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4640" y="836640"/>
            <a:ext cx="8229600" cy="150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РМАЦЕУТСКА ТЕХНОЛОГИЈА 1</a:t>
            </a:r>
            <a:br>
              <a:rPr sz="4000"/>
            </a:br>
            <a:br>
              <a:rPr sz="4000"/>
            </a:br>
            <a:r>
              <a:rPr b="1" lang="sr-C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И ФАРМАЦЕУТСКИ ПРЕПАРА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7"/>
          <p:cNvSpPr/>
          <p:nvPr/>
        </p:nvSpPr>
        <p:spPr>
          <a:xfrm>
            <a:off x="4282920" y="264312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3"/>
          <p:cNvSpPr/>
          <p:nvPr/>
        </p:nvSpPr>
        <p:spPr>
          <a:xfrm>
            <a:off x="4211640" y="515772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. др Ана Барјактаре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52280"/>
            <a:ext cx="746748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4"/>
          <p:cNvSpPr/>
          <p:nvPr/>
        </p:nvSpPr>
        <p:spPr>
          <a:xfrm flipV="1">
            <a:off x="633240" y="2068200"/>
            <a:ext cx="0" cy="234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703440" y="441180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 flipV="1">
            <a:off x="633240" y="2349360"/>
            <a:ext cx="2138400" cy="20764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2338560" y="4460760"/>
            <a:ext cx="195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8"/>
          <p:cNvSpPr/>
          <p:nvPr/>
        </p:nvSpPr>
        <p:spPr>
          <a:xfrm rot="16200000">
            <a:off x="-628920" y="2778480"/>
            <a:ext cx="195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 rot="18900000">
            <a:off x="1460880" y="2311560"/>
            <a:ext cx="16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гр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10"/>
              <p:cNvSpPr txBox="1"/>
              <p:nvPr/>
            </p:nvSpPr>
            <p:spPr>
              <a:xfrm>
                <a:off x="684360" y="1052640"/>
                <a:ext cx="98568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2" name="Line 11"/>
          <p:cNvSpPr/>
          <p:nvPr/>
        </p:nvSpPr>
        <p:spPr>
          <a:xfrm flipV="1">
            <a:off x="4367160" y="2144880"/>
            <a:ext cx="0" cy="234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4367160" y="4511520"/>
            <a:ext cx="2379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3"/>
          <p:cNvSpPr/>
          <p:nvPr/>
        </p:nvSpPr>
        <p:spPr>
          <a:xfrm>
            <a:off x="6072120" y="453708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4"/>
          <p:cNvSpPr/>
          <p:nvPr/>
        </p:nvSpPr>
        <p:spPr>
          <a:xfrm rot="16200000">
            <a:off x="3106080" y="3007440"/>
            <a:ext cx="195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sl-SI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l-SI" sz="20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340240" y="2792520"/>
            <a:ext cx="23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4427640" y="3240000"/>
            <a:ext cx="2257200" cy="0"/>
          </a:xfrm>
          <a:prstGeom prst="line">
            <a:avLst/>
          </a:prstGeom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9"/>
          <p:cNvSpPr/>
          <p:nvPr/>
        </p:nvSpPr>
        <p:spPr>
          <a:xfrm>
            <a:off x="4932360" y="5229360"/>
            <a:ext cx="396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АЖНО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њутновских течности зависи само од ТЕМПЕРАТУРЕ, а не од брзине смицањ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179280" y="510372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једначина у дијаграму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D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аје праву линију, са почетн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чком у координатном почетку, а вискозитет је тангенс угла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ји ова права заклапа са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 Њутновских теч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тан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љна уља (маслиново, сунцокретово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олошки раство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95280" y="2206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и који се не понашају по Њутновом закону тј. код којих вискозитет није константан, називају с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е течност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ст између брзине и напона смицања је обично приказан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ивом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правом која не полази из координатног почет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који настаје као резултат унутрашњег отпора при дејству силе, сложенији је него код њутновских система. Као последица дејства силе и померања унутрашњих слојев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олази до појаве протицања у ширем смислу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57200" y="126828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ђутим, када се у реологији говори о протицању тада се под тим изразом не подразумев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амо протицање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ећ и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јав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што је деформација која настаје под дејством спољних сила, као и друге механичке особине датих система (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еластичност, пластичност, растегљивост, вискоеластичност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оване суспензи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, масти, кремов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макромолекул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68360" y="1197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њутновских течности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ИЈЕ константан,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 је у функцији брзине смицања D, која се приказује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чким кривама - криве протицања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ећање D доводи до смањења вискозитета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начина која описује протицање нењутновских течности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10"/>
              <p:cNvSpPr txBox="1"/>
              <p:nvPr/>
            </p:nvSpPr>
            <p:spPr>
              <a:xfrm>
                <a:off x="3132000" y="4076640"/>
                <a:ext cx="1737000" cy="13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ηа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τ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TextBox 5"/>
          <p:cNvSpPr/>
          <p:nvPr/>
        </p:nvSpPr>
        <p:spPr>
          <a:xfrm>
            <a:off x="539640" y="5732640"/>
            <a:ext cx="76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η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ривидни вискозитет (Pa 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68360" y="1915920"/>
            <a:ext cx="829152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зависе од времен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брзина смицања је функција само примењеног напона смицања, а не и времена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реолошке карактеристик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и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еластични системи, код којих реолошке карактериситке такође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висе од времена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руктура самог система долази до изражаја, тако да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ни показују особине и чврстих тел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ластичност) </a:t>
            </a:r>
            <a:r>
              <a:rPr b="0" lang="ru-RU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 течности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искозитет</a:t>
            </a:r>
            <a:r>
              <a:rPr b="0" lang="nl-NL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684360" y="98100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ови Нењутновских систе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920" y="2205000"/>
            <a:ext cx="8424720" cy="614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смицања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у било којој тачки система који протиче, представља </a:t>
            </a:r>
            <a:r>
              <a:rPr b="0" lang="ru-RU" sz="21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у напона смицања и обрнуто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 = f (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)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ili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f (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рене вредности вискозитета зависе од примењене брзине смицања или напона смицања што практично значи и од конструкције вискозиметра, па се вискозитет нењутновских система назива </a:t>
            </a:r>
            <a:r>
              <a:rPr b="1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идни вискозитет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 група реолошких система даје три типа протицања</a:t>
            </a:r>
            <a:r>
              <a:rPr b="0" lang="en-US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не зависе од вре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454960" cy="527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пластичних система је постојањ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пушт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носног напона (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течност почела да тече мора се савладати приносни напон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д ове критичне вредности пластично тело не протиче већ трпи само реверзибилне деформације као еластична чврста те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осни напон је последица успостављања веза између суседних честица система, које се морају раскинути да би систем почео да теч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 почиње да тече када је споља примењена сила већа од унутрашњих структурних сила присутних у препар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ше флокуловани системи (суспензије, емулзије) имају већу вредност напона попушт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395280" y="98064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69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ластично понашање показују неке масти, кремови, гели, пасте.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парати за дерматолошку примену би требало да показују пластично понашање. Притиском на тубу савлада се приносни напон и препарат почиње да тече из тубе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5" descr="dan18"/>
          <p:cNvPicPr/>
          <p:nvPr/>
        </p:nvPicPr>
        <p:blipFill>
          <a:blip r:embed="rId1"/>
          <a:stretch/>
        </p:blipFill>
        <p:spPr>
          <a:xfrm>
            <a:off x="1258920" y="2997360"/>
            <a:ext cx="6626160" cy="2833560"/>
          </a:xfrm>
          <a:prstGeom prst="rect">
            <a:avLst/>
          </a:prstGeom>
          <a:ln w="0">
            <a:noFill/>
          </a:ln>
        </p:spPr>
      </p:pic>
      <p:sp>
        <p:nvSpPr>
          <p:cNvPr id="95" name="TextBox 5"/>
          <p:cNvSpPr/>
          <p:nvPr/>
        </p:nvSpPr>
        <p:spPr>
          <a:xfrm>
            <a:off x="755640" y="587700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. B. Кривe протицања код пластичног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74680" y="1700280"/>
            <a:ext cx="822960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цање псеудопластичних система не зависи од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носног напо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јством силе псеудопластични систем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дмах почиње да тече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крива течења почиње из координантног почетка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стика ових система је да са повећањем брзине смицања долази до разређивања, јер им се вискозитет смањ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полим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перзије деривата целуло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дени раствор ксантан гуме у нижим концентрац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55640" y="1052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удопластич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ука о протицању и деформацији материје под утицајем спољних сила и даје везу између 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, деформације и времена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 потиче од реч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he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ћи, протица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os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оријске основе реологије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ак Њут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125000"/>
            <a:ext cx="82296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зина смицања расте брже него напон смицања, градећи при томе криву течења конкавну према апсциси која представља брзину смицањ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dan19"/>
          <p:cNvPicPr/>
          <p:nvPr/>
        </p:nvPicPr>
        <p:blipFill>
          <a:blip r:embed="rId1"/>
          <a:stretch/>
        </p:blipFill>
        <p:spPr>
          <a:xfrm>
            <a:off x="1332000" y="2781360"/>
            <a:ext cx="6678360" cy="1871640"/>
          </a:xfrm>
          <a:prstGeom prst="rect">
            <a:avLst/>
          </a:prstGeom>
          <a:ln w="0">
            <a:noFill/>
          </a:ln>
        </p:spPr>
      </p:pic>
      <p:sp>
        <p:nvSpPr>
          <p:cNvPr id="100" name="TextBox 4"/>
          <p:cNvSpPr/>
          <p:nvPr/>
        </p:nvSpPr>
        <p:spPr>
          <a:xfrm>
            <a:off x="755640" y="5157720"/>
            <a:ext cx="76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иве протицања и вискозитета псеудопластичних сист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4"/>
          <p:cNvSpPr/>
          <p:nvPr/>
        </p:nvSpPr>
        <p:spPr>
          <a:xfrm>
            <a:off x="395280" y="1945800"/>
            <a:ext cx="8166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 или смицај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гушњав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система супротно псеудопластич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ише с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растом вискозитета са повећањем брзине смицањ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ретко ј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е особине показуј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са великим садржајем диспергованих чест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латантно протиц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dan25"/>
          <p:cNvPicPr/>
          <p:nvPr/>
        </p:nvPicPr>
        <p:blipFill>
          <a:blip r:embed="rId1"/>
          <a:stretch/>
        </p:blipFill>
        <p:spPr>
          <a:xfrm>
            <a:off x="971640" y="1628640"/>
            <a:ext cx="6572160" cy="2806920"/>
          </a:xfrm>
          <a:prstGeom prst="rect">
            <a:avLst/>
          </a:prstGeom>
          <a:ln w="0">
            <a:noFill/>
          </a:ln>
        </p:spPr>
      </p:pic>
      <p:sp>
        <p:nvSpPr>
          <p:cNvPr id="104" name="TextBox 5"/>
          <p:cNvSpPr/>
          <p:nvPr/>
        </p:nvSpPr>
        <p:spPr>
          <a:xfrm>
            <a:off x="1042920" y="5229360"/>
            <a:ext cx="6337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зависности брзине смицања и напона смицања код дилатантног протицања - повећањем брзине смицања нагло расте напон смицања тј.вискозите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2421000"/>
            <a:ext cx="8426520" cy="45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код којих је вискозитет у 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ункцији брзине смицања 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и и </a:t>
            </a:r>
            <a:r>
              <a:rPr b="1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ремена</a:t>
            </a:r>
            <a:r>
              <a:rPr b="0" lang="sr-CS" sz="25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трајања спољашње силе</a:t>
            </a: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истему долази до разрушавања и успостављања унутрашње структуре што захтева извесно врем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ову групу нењутновских течности убрајају се појав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-285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3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 чије особине зависе од време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13840" y="1915920"/>
            <a:ext cx="875052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з потиче од реч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ixis – мешање и trepo – обнављање или промена (промена додир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чности и получврст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ла се одликују високим вискозитетом при ниским напонима смицања, али се вискозитет смањује при повећању напона смицањ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 тиксотропијом се подразумева да неки колоидни систем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 мировању прелазе у чврсто стањ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рај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а пр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еханичком дејству поново постај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јали - унутрашњи отпор зависи од интензитета примењене механичке силе, времена њеног трајања и износа претходних деформациј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457200" y="1062000"/>
            <a:ext cx="8229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5960" y="6381720"/>
            <a:ext cx="491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0. Криве протицања тиксотропних систе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Content Placeholder 5" descr="dan26"/>
          <p:cNvPicPr/>
          <p:nvPr/>
        </p:nvPicPr>
        <p:blipFill>
          <a:blip r:embed="rId1"/>
          <a:srcRect l="-3230" t="0" r="0" b="0"/>
          <a:stretch/>
        </p:blipFill>
        <p:spPr>
          <a:xfrm>
            <a:off x="324000" y="3357720"/>
            <a:ext cx="8229600" cy="3001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7"/>
          <p:cNvSpPr/>
          <p:nvPr/>
        </p:nvSpPr>
        <p:spPr>
          <a:xfrm>
            <a:off x="250920" y="981000"/>
            <a:ext cx="889308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ксотропне особине показуј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полимера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и и гели желатине, пектина, скроба, деривата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улозе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олошке течности, крв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 ако садрже средство за повећање вискозитета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250560" y="1995480"/>
            <a:ext cx="859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 појава где при механичком дејству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оком времена долази до повећањ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пона смицања тј. </a:t>
            </a:r>
            <a:r>
              <a:rPr b="0" lang="ru-RU" sz="23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мировању систем губи конзистенцију (појава супротна тиксотропији)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антитиксотропне системе равнотежа је сол стање (размекшани, течан облик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пексија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истеми код којих се узлазна крива која показује разређивање (омекшавање) и силазна крива која показује згушњавање преклапа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система који показују реопексију долази до успостављања тиксотропне структуре, односно до повећања вискозитета при лаганом механичком дејству. Гел форма је равнотежно стањ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2400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титиксотропија и реопекс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12840" y="12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9640" y="5805360"/>
            <a:ext cx="8353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ика 11. Криве протицања антитиксотропних система и система који показују реопек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5" descr="dan27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4000" y="1915920"/>
            <a:ext cx="830088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е супстанце су оне, које под дејством механичке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иле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мај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актеристике и чврстих и течних система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ки колоидни системи, концентровани раствори линеарних макромолекула, желатин и скроб, нису ни идеално чврсти ни идеално течни, већ поседују у различитом обиму особине и чврстих и течних те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ква тела производе како еластичне тако и вискозне деформације, па се називају вискоеластични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лику од тиксотропних, код високоеластичних система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е долази до потпуног разрушавања унутрашње структуре и преласка у течно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сол) стање, тако да и поред промена које се дешавају под дејством спољних сила остају мање- више у </a:t>
            </a: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ом стању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о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90792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рење вискозитет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844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метром –  на одређеној температури и при одређеној брзини смицања (нпр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okfield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v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скозимета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ациони вискозиметар – за получврсте препарате који припадају нењутновским системима. Мерење се врши на константној температури (20±0,1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шки параметри који се могу одредити ротационим вискозиметром су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мални и максимални вискоз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попушт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п протицања (пластично, псеудопластично, дилатантн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је област физике која се бави деформацијама и течењем матер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реолошке тачке гледишта, систем је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чврс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поседује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облик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а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им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гасовит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ко не задржи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лик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и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олум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ада је на њег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њен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а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нстантна сил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ално чврсто тело се деформише под дејством силе и враћа у првобитно стање по престанку деловања силе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могу да се под притиском сабију и смање волумен, али се враћају у почетни волумен када притисак преста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течних фармацеутских препара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68360" y="1989000"/>
            <a:ext cx="8229600" cy="510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вање реолошких особина фарм. препарата је неопходно ради процене квалитета, стабилности, избора опреме и технолошких поступака израде као и примене (истицање из амбалаже и апликација) независно од конзистен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мулзије и суспен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тко су њутновског типа, много чешће нењутновског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емулзије биле стабилне требало би да буду псеудопластичног типа (да лако теку при мућкању, изливању из боце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локуловане суспензије показују пластично или псеудопластично </a:t>
            </a:r>
            <a:r>
              <a:rPr b="0" lang="sr-C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но од концентрац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зије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циљу стабилизације, често се додају помоћне материје које повећавају вискозитет спољашњој фази, пошто бубре у води (ксантан гума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C, CMC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боме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потреб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спендујуће средство, настаје суспензија са већим вискозитетом у мировању, који се може смањити мућкањем или сипањем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а количина средства за повећање вискозитета (бентонит), доћи ће до појаве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иксотроп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спендујуће средство омогућава да се добије суспензија која не седиментир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6200" y="1916280"/>
            <a:ext cx="83012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ковити препарати получврсте конзистенције имају јединствене реолошке особине, јер немају свој облик (заузимају облик амбалаже) и лако се деформишу под дејством спољашње силе: истичу из боце, истискују из тубе, омекшавају и распростиру при размазивању на кож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ти и кремов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комплексно реолошко понашање које може укључити иреверзибилно рушење структуре, тиксотропно, вискоеластично понашањ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емови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ично су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сте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ли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сеудо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и нижим концентрацијама гелирајућег средства, док при вишим концентрацијама понашање прелази у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ластичн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ологија препарата получврсте конзистен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кључа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8864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снову реолошких особина течних и получврстих препарата и типа протицања може се предвидети понашање и стабилност током производње, чувања и примене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току производње предвиђа се реолошким мерењима при великим брзинама смицања (користе се мешалице са великом брзином мешањ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ашање препарата у стању мировања или током терапијске примене предвиђа се реолошким мерењима при малим брзинама смица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разматрања ограничимо на 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течне системе 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ји под дејством спољних сила протичу, унутрашњи отпор који се противи узајамном померању суседних слојева и протицању течности, назива се </a:t>
            </a:r>
            <a:r>
              <a:rPr b="1" lang="sr-C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течност посматрамо као низ веома танких слојева који се при протицању крећу један мимо другог, различитим брзинама, онда је унутрашњи отпор течности последица узајамног трења суседних слојева</a:t>
            </a:r>
            <a:r>
              <a:rPr b="0" lang="nl-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искозитет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е дефинише као унутрашње трење између суседних слојева који протичу различитим брзин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ела материјала према типовима течења и дефо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68000" y="2565360"/>
            <a:ext cx="3249720" cy="345600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3"/>
          <p:cNvSpPr/>
          <p:nvPr/>
        </p:nvSpPr>
        <p:spPr>
          <a:xfrm>
            <a:off x="4067280" y="2565360"/>
            <a:ext cx="4537080" cy="3446640"/>
          </a:xfrm>
          <a:prstGeom prst="rect">
            <a:avLst/>
          </a:prstGeom>
          <a:solidFill>
            <a:srgbClr val="bbe0e3"/>
          </a:solidFill>
          <a:ln w="9360">
            <a:solidFill>
              <a:srgbClr val="2222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њутновски систе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н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висе 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и чије особине завис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 вре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еластични систе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ски сист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1915920"/>
            <a:ext cx="8435880" cy="64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2000"/>
          </a:bodyPr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ости за које важи Њутнов закон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– површина течности на коју делује сила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утрашњег отпора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вискозитета или вискоз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градијент брзине протица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Њутнов закон вискозитета важи само за ламинарно (слојевито) протицање теч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1040" indent="-410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2967120" y="2637000"/>
                <a:ext cx="2343240" cy="109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А</m:t>
                        </m:r>
                      </m:den>
                    </m:f>
                    <m:r>
                      <m:t xml:space="preserve">=</m:t>
                    </m:r>
                    <m:r>
                      <m:t xml:space="preserve">η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56840" y="1197000"/>
            <a:ext cx="843588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лучају ка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=1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nl-NL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dv/dx=1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излаз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је коефицијент викозитета или вискозитет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еднак сили унутрашњег отпора протицању коју пружа слој течности на јединици површине, када је градијант брзине протицања јединица (</a:t>
            </a: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=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вискозитет се назива </a:t>
            </a:r>
            <a:r>
              <a:rPr b="1" lang="sr-C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намички вискозитет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единице динамичког вискозитета су 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a s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kg/m 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ки вискозитет – тангенцијална сила потребна да се слој течности помери паралелно у односу на раван клизањ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4"/>
          <p:cNvSpPr/>
          <p:nvPr/>
        </p:nvSpPr>
        <p:spPr>
          <a:xfrm>
            <a:off x="3708360" y="2421000"/>
            <a:ext cx="1871640" cy="863640"/>
          </a:xfrm>
          <a:prstGeom prst="rect">
            <a:avLst/>
          </a:prstGeom>
          <a:solidFill>
            <a:srgbClr val="9c9cdf"/>
          </a:solidFill>
          <a:ln w="25560">
            <a:solidFill>
              <a:srgbClr val="7575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197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о се Њутнова једначина модификује тако да ј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/A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 dv/dx=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добија се</a:t>
            </a:r>
            <a:r>
              <a:rPr b="0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F/A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н смицања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hear stress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N/m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²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ли Pa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назива се и одговара тангенцијалном напону који се јавља при дефорамцији тела силом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 по јединици површин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v/dx=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брзин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ицања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енглеск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ear rate)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жава се у јединицама s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341000"/>
            <a:ext cx="83628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 неке течности је отпор протицању и одређен је било којим количником напона и брзине смицањ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1" lang="nl-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=con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д Њутновских течности постоји директна пропорционалност између напона смицања и брзине смицања, односн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козите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 зависи од ових параметара и им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ну вреднос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0</cp:lastModifiedBy>
  <dcterms:modified xsi:type="dcterms:W3CDTF">2022-11-23T09:17:53Z</dcterms:modified>
  <cp:revision>218</cp:revision>
  <dc:subject/>
  <dc:title>Slide 1</dc:title>
</cp:coreProperties>
</file>